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A9A66-46CE-4C86-A926-C0C28B5D3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0A2-046F-42CA-AF5A-7182BAC2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8B2-50EC-4B69-B498-5328B06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FFA-0589-4999-BACA-04E49EEB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1DC-0CC4-4838-B2B2-6E63956A2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D53-10ED-49A3-A537-9FA3D583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E6C8-980E-4304-9FEE-C0CBB855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F62-DC59-40B2-9103-47345895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3824-2567-4361-951F-C79554C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F7D-C244-439B-91C2-29952839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F7CA-9D74-426D-98DA-2CA04AC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9F7-E2D4-4572-95AE-9BF338E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EC4-D6AC-4A23-98CF-B35B18C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421A0-C2B8-48E8-B84D-816A6F095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,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093840"/>
            <a:ext cx="907092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Lab, UC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75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57440" y="2057040"/>
            <a:ext cx="475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s much in an automated wa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30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36680"/>
            <a:ext cx="90709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focused on CentOS4 RPM packages for the Nelso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ing now to Cent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ackaging Chado DBs using the 1.0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B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g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others (mm9, rn4, panTro2, rheMac2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/2 referenc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RPMs solve man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machines can be tainted by other repositories, source-based installs, other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achines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quickly try the GMOD catalo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distribute clean testing and developme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have a virtual machine with all the Biopackages-provided tools pre-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ased on CentO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prototype CentOS4 machine with Chado 1.0 schema, recent BioPerl, and Turnkey/GMODWeb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Dave Clements on RPMs to create an updated CentOS5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360" y="976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1800" y="1600200"/>
            <a:ext cx="79772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120680"/>
            <a:ext cx="907092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rnkey/GMODWe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expand Java producer to eliminate Perl dependenc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packag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for RPM developers (or deb package builders for Ubu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rtual Mach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create CentOS5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GMOD demo/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Biopackages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 using GMOD tools for Next Gen Sequenc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doconno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Web = Turnkey + Chado + Integration w/ other projects (GBrowse, Amig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17544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5440" y="6605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800" y="22510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57640" y="2268360"/>
            <a:ext cx="2122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2195640"/>
            <a:ext cx="2021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7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"/>
            <p:cNvCxnSpPr/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9720" y="4791240"/>
            <a:ext cx="2063520" cy="2135160"/>
            <a:chOff x="909720" y="4791240"/>
            <a:chExt cx="2063520" cy="2135160"/>
          </a:xfrm>
        </p:grpSpPr>
        <p:sp>
          <p:nvSpPr>
            <p:cNvPr id="89" name=""/>
            <p:cNvSpPr/>
            <p:nvPr/>
          </p:nvSpPr>
          <p:spPr>
            <a:xfrm>
              <a:off x="909720" y="4791240"/>
              <a:ext cx="2063520" cy="213516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5160"/>
                <a:gd name="textAreaBottom" fmla="*/ 2134800 h 2135160"/>
              </a:gdLst>
              <a:ahLst/>
              <a:rect l="textAreaLeft" t="textAreaTop" r="textAreaRight" b="textAreaBottom"/>
              <a:pathLst>
                <a:path w="21600" h="22350">
                  <a:moveTo>
                    <a:pt x="16" y="0"/>
                  </a:moveTo>
                  <a:arcTo wR="16" hR="16" stAng="16200000" swAng="-5400000"/>
                  <a:lnTo>
                    <a:pt x="0" y="22334"/>
                  </a:lnTo>
                  <a:arcTo wR="16" hR="16" stAng="10800000" swAng="-5400000"/>
                  <a:lnTo>
                    <a:pt x="21584" y="2235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880" y="5045040"/>
              <a:ext cx="1098720" cy="1650960"/>
            </a:xfrm>
            <a:custGeom>
              <a:avLst/>
              <a:gdLst>
                <a:gd name="textAreaLeft" fmla="*/ 360 w 1098720"/>
                <a:gd name="textAreaRight" fmla="*/ 1098360 w 109872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53">
                  <a:moveTo>
                    <a:pt x="31" y="0"/>
                  </a:moveTo>
                  <a:arcTo wR="31" hR="31" stAng="16200000" swAng="-5400000"/>
                  <a:lnTo>
                    <a:pt x="0" y="32422"/>
                  </a:lnTo>
                  <a:arcTo wR="31" hR="31" stAng="10800000" swAng="-5400000"/>
                  <a:lnTo>
                    <a:pt x="21569" y="32453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4480" y="5213520"/>
            <a:ext cx="2275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4187880"/>
            <a:ext cx="1693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1778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9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9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394400" y="5467320"/>
              <a:ext cx="1632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264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&amp;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15704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totyp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tool for activ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build up-to-date webapps integrated with other GMO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dependenci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dicul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 of al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sign decision to use custom Perl rendering engine limits performance and appeal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key 1.4 is available and addresses some bugs since the release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MODWeb: a web framework for the Generic Model Organism Datab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iol. 2008 ; 9(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virtual machin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Updated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Biopackage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980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.ne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ository of software compiled for CentOS (mostly CentOS4) and Fe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m install c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make it easy to install softwar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1600200"/>
            <a:ext cx="7913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resolution is a huge part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2:06Z</dcterms:created>
  <dc:creator/>
  <dc:description/>
  <dc:language>en-US</dc:language>
  <cp:lastModifiedBy>Brian O'Connor</cp:lastModifiedBy>
  <dcterms:modified xsi:type="dcterms:W3CDTF">2009-01-16T22:13:12Z</dcterms:modified>
  <cp:revision>13</cp:revision>
  <dc:subject/>
  <dc:title/>
</cp:coreProperties>
</file>